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BD4F-5741-4831-B09F-0D942FD9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1497-7094-400E-8593-27651A87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F2DA-4682-4558-81BE-AFC463CBE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095A-E83D-4CB9-B5C4-12A8937F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EA78-CBAA-4076-A161-3FF09E1B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3E83-487A-4023-AC56-B201BD44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6C05-86BE-4913-B66F-5AABFC84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B36D-C18D-49E7-BBFA-25ECD357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B36C-0C2D-4B93-AEC0-A3BEAE12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7E8F-DDBA-4FF7-86C6-26E03ED6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B1C7-115A-438D-8721-B911CF05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68FE-05FE-4C62-AF64-79388B20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48DF-C905-4342-AA55-7B53FEA1E74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3018240" y="3929040"/>
            <a:ext cx="30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n Internet browser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314000" y="48164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387440" y="5392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oca C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419080" y="48164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Su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5438160" y="54450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luk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30828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5422680" y="48164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Gre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785960" y="3929040"/>
            <a:ext cx="55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hich country won the football European Championship in 2004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3286080" y="392904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050 : 50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equa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313640" y="48164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419080" y="48164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38160" y="5445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334520" y="5445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5419080" y="48164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286080" y="392904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050 : 50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equa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3571920" y="3929040"/>
            <a:ext cx="25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hat brings luc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421960" y="481644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i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441760" y="5445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h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336320" y="5445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411920" y="479736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iam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5441760" y="5445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h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571920" y="3929040"/>
            <a:ext cx="25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hat brings luc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3071880" y="3929040"/>
            <a:ext cx="344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ow many liters contains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m</a:t>
            </a:r>
            <a:r>
              <a:rPr b="0" lang="de-CH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419080" y="4816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437800" y="54450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406160" y="54450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405800" y="4797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5419080" y="4816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071880" y="3929040"/>
            <a:ext cx="344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ow many liters contains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m</a:t>
            </a:r>
            <a:r>
              <a:rPr b="0" lang="de-CH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714680" y="3929040"/>
            <a:ext cx="58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ow many fingers do the Simpsons have on one ha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5437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1405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1405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714680" y="3929040"/>
            <a:ext cx="58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ow many fingers do the Simpsons have on one ha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2071800" y="392904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country is not a neighbor to Switzerland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5423400" y="481644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441760" y="54450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409040" y="54450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407240" y="47973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314000" y="48164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38420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018240" y="3929040"/>
            <a:ext cx="30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n Internet browser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1409040" y="54450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071800" y="392904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country is not a neighbor to Switzerland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143080" y="3929040"/>
            <a:ext cx="52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hich state does the Corsica island belong 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5420520" y="481644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5442840" y="54450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409040" y="54450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1409400" y="47973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8"/>
          <p:cNvSpPr/>
          <p:nvPr/>
        </p:nvSpPr>
        <p:spPr>
          <a:xfrm>
            <a:off x="140328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1409400" y="47973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143080" y="3929040"/>
            <a:ext cx="52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hich state does the Corsica island belong 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2857680" y="3929040"/>
            <a:ext cx="39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hich country does not use Eur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422680" y="481644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5442840" y="54450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1410120" y="54450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1410120" y="479736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5442840" y="54450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2857680" y="3929040"/>
            <a:ext cx="39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hich country does not use Eur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428840" y="3929040"/>
            <a:ext cx="60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hen was the first championship in ice cutting organiz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22252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5222520" y="5445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6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1261800" y="5445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8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126180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922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8"/>
          <p:cNvSpPr/>
          <p:nvPr/>
        </p:nvSpPr>
        <p:spPr>
          <a:xfrm>
            <a:off x="1258920" y="544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126180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428840" y="3929040"/>
            <a:ext cx="60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hen was the first championship in ice cutting organiz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571840" y="392904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ow many sides does a cube h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221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522180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126108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12607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7"/>
          <p:cNvSpPr/>
          <p:nvPr/>
        </p:nvSpPr>
        <p:spPr>
          <a:xfrm>
            <a:off x="521964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525096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2571840" y="392904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ow many sides does a cube h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714760" y="392904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hat is the width of a footbal g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522540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5225760" y="54450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,08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264680" y="5445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,53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126468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,5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165360"/>
            <a:ext cx="7772400" cy="4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2162160" y="3929040"/>
            <a:ext cx="48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hat is the name of the capital city of Turke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313640" y="48164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Istanb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386720" y="5392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k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419080" y="481644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tal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437800" y="54450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Bu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956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522540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21964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714760" y="392904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hat is the width of a footbal g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1386720" y="5392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k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162160" y="3929040"/>
            <a:ext cx="48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hat is the name of the capital city of Turke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1428840" y="392904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ow many books about Harry Potter have been publish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31400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438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33380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5438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428840" y="392904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ow many books about Harry Potter have been publish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928800" y="392904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hich singer is know for singing a song called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„My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eart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ill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n“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313640" y="481644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Emin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20520" y="48164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eline D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5438520" y="544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lanis Moriss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335240" y="544500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shlee Simp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2216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5420520" y="48164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eline D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928800" y="392904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hich singer is know for singing a song called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„My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eart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ill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n“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785960" y="3929040"/>
            <a:ext cx="55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hich country won the football European Championship in 2004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317960" y="481644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422680" y="48164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Gre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441760" y="54450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339200" y="54450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8:54:53Z</dcterms:created>
  <dc:creator>kahraman</dc:creator>
  <dc:description/>
  <dc:language>en-US</dc:language>
  <cp:lastModifiedBy>Grada</cp:lastModifiedBy>
  <dcterms:modified xsi:type="dcterms:W3CDTF">2016-01-25T10:58:49Z</dcterms:modified>
  <cp:revision>72</cp:revision>
  <dc:subject/>
  <dc:title>Folie 1</dc:title>
</cp:coreProperties>
</file>